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114-1975-44B5-A89B-17B0B439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940-D94C-43BC-B655-C560E81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33E-A350-43E0-AB31-EC178314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AA7-B032-42CB-8795-6696939E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C58-4794-4A5A-BA91-6D751B1B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79F-8C13-4005-9C6C-B7028D9A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4F8-F3B4-40CF-A0A7-3F2C06B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903-6051-4591-AFA0-589CC87C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D75-13E1-419C-9409-8FEC600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11D-7B0A-44F3-BBA3-362751BD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FEA-0C69-452E-8EBE-185F04F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F7E-90EE-4183-9750-80DDECA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B91-E25C-4EE5-9DBB-EAD7D8C57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First Grade High Frequency Words (List 1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a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4:00Z</dcterms:created>
  <dc:creator>Jennifer Dalton</dc:creator>
  <dc:description/>
  <dc:language>en-US</dc:language>
  <cp:lastModifiedBy>Jennifer Dalton</cp:lastModifiedBy>
  <dcterms:modified xsi:type="dcterms:W3CDTF">2011-10-31T11:29:19Z</dcterms:modified>
  <cp:revision>2</cp:revision>
  <dc:subject/>
  <dc:title>First Grade High Frequency Words (List 1)</dc:title>
</cp:coreProperties>
</file>